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46173"/>
        <c:axId val="52336332"/>
      </c:barChart>
      <c:catAx>
        <c:axId val="917461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36332"/>
        <c:crosses val="autoZero"/>
        <c:auto val="1"/>
        <c:lblAlgn val="ctr"/>
        <c:lblOffset val="100"/>
        <c:noMultiLvlLbl val="0"/>
      </c:catAx>
      <c:valAx>
        <c:axId val="52336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461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C86-0B4A-450B-A75B-7EAA039A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10F-AF2B-40EC-B5DB-03B37A21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BA17-A213-42BD-A4BE-30DD10AA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F15-9F6B-4E9C-89AC-DD8F1607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460-5714-47F5-96F0-7F083168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E47-5B83-4BCD-9768-1D2107C0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B865-3CD2-480B-B230-5DC7A900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F5E-E8AD-4014-99E1-6DEA63A4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715E-EBCE-4780-953A-3740BD45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C567-8B73-4029-8F89-DE053BAF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B4E6-E2B0-4A10-92CA-ABA6CDCE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8D5-68B3-4D10-9FBB-2AA59B69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BD46E-C4CD-4DE2-91E4-FBF0F0339B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