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24076"/>
        <c:axId val="32746428"/>
      </c:barChart>
      <c:catAx>
        <c:axId val="76024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46428"/>
        <c:crosses val="autoZero"/>
        <c:auto val="1"/>
        <c:lblAlgn val="ctr"/>
        <c:lblOffset val="100"/>
        <c:noMultiLvlLbl val="0"/>
      </c:catAx>
      <c:valAx>
        <c:axId val="32746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24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8CF-0C3A-458E-9A86-FAD78EEF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C9B-AE7E-44B0-B1B5-8AA0C9C0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DEE-41EC-4AA8-ABB9-92EF6C46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725-1BCC-43C8-B942-FF35E7A8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833-2BF0-4734-96A0-E2C1260C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4C2-FD4B-4906-BD2E-D53F1100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AC0-BDCD-4FB6-813D-FFD03298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C81-11A4-40C9-98FC-0C7BD87B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C8F-EB2F-4C44-B1A3-E8D3A32E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A16-4648-4488-8BA0-0A89AA49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4A1-E135-48FD-9A14-B37C6891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CC2-DC60-4C57-AD92-5D2707C2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22AE8-5D94-421A-AC18-2B110F2BDB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