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77891"/>
        <c:axId val="7247091"/>
      </c:barChart>
      <c:catAx>
        <c:axId val="78877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7091"/>
        <c:crosses val="autoZero"/>
        <c:auto val="1"/>
        <c:lblAlgn val="ctr"/>
        <c:lblOffset val="100"/>
        <c:noMultiLvlLbl val="0"/>
      </c:catAx>
      <c:valAx>
        <c:axId val="724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7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C94-74B9-432A-B433-E8BC5C81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4E1-A4CC-44D1-A82D-13575D98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8A5-5108-4164-B762-285DC491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B64-F180-422C-87BA-49974A36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F9A-B38D-4B78-BD61-81125C9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B20-C1C2-47DD-8E8D-122173B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B0B-4479-43FA-9D77-64D29D31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9A9-37B3-410D-84FF-7481AE2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3B1-642A-42E2-976B-7D5013C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CF1-906A-4EBE-9DD3-E119FA7B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EC7-9EE8-4909-996E-61A0FD0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299-0791-4059-92C4-9DEE2A0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CDBA-3535-4823-8924-E14FF6496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