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348884"/>
        <c:axId val="66980673"/>
      </c:barChart>
      <c:catAx>
        <c:axId val="29348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80673"/>
        <c:crosses val="autoZero"/>
        <c:auto val="1"/>
        <c:lblAlgn val="ctr"/>
        <c:lblOffset val="100"/>
        <c:noMultiLvlLbl val="0"/>
      </c:catAx>
      <c:valAx>
        <c:axId val="66980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48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843-1494-44DD-BBD3-794DB579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C73-BAC5-4481-AFBA-E20CD5E7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A4F-E121-457C-909A-F75D7402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5CB-351C-466B-961C-EECE2DD8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81D-6BB1-410B-83D2-C22803E7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C9B-3E25-44F4-9194-A9E986D9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9DC-70D0-4573-B02C-E68716F8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8BE-C5C0-4265-B6EB-D0214760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CAD-6B05-4884-8AB4-5F915A2B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E09-3526-44EC-9E60-363BDEFB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D1E9-3DAF-4BCB-A080-70555C2A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CB0-1384-446E-BC52-78445D84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C3985-3427-4CBC-A48F-67908989D4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