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10424"/>
        <c:axId val="47072916"/>
      </c:barChart>
      <c:catAx>
        <c:axId val="66510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72916"/>
        <c:crosses val="autoZero"/>
        <c:auto val="1"/>
        <c:lblAlgn val="ctr"/>
        <c:lblOffset val="100"/>
        <c:noMultiLvlLbl val="0"/>
      </c:catAx>
      <c:valAx>
        <c:axId val="47072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10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713-8A07-4A96-94CD-714C282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A10-B29A-4A57-9D27-6352FC69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1D4-399A-4030-9CA1-0A55DA88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331-1212-41DD-999B-B5236F6E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762-0E83-4638-A262-88B0C468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BFC-D5B1-43CD-9859-3FBAA410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733-5361-418E-8534-2F3FEAA6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62E-E224-49DF-A303-3C79997B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870-DA8B-4B87-8399-C6E919B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F46-04B2-4905-8CF3-2DF980D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828-4518-4390-934D-D35B259F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716-CD66-4610-A120-4EC987E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8975A-9844-4B3B-9C21-6E0D6151DD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